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3.jpeg" ContentType="image/jpeg"/>
  <Override PartName="/ppt/media/image24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0.png" ContentType="image/pn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22E8-F307-4C73-8FCA-890692F40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2493-22B7-413F-B4C6-346984EAC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158D-1EC1-4DB6-A868-3B0223A50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9736-BA1D-4260-938C-324F67232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228C0-6B3C-4673-8438-FDDC573B8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B3B68-8584-4DF4-868E-6A3CDF633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3B564-040D-40E7-9695-407F66EBA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91F29-31CB-4544-A8E3-E0EC31B4C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FF3F8-1E44-48EB-A649-597115B84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D2F52-B14E-4C02-B7F7-1D29B5602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2F837-7D50-4D8D-A050-07631EAD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8F08-CF6F-4758-A37A-A3181FF68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520D7-6574-4079-B310-98F46E2C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BADE7-E3C8-4A55-A9CE-F64FB4F3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EE724-59E6-44E7-B877-16621C906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CD034-19C9-4BD0-9BB7-A53DC8F99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BC0C7-9C8F-40D0-A86A-E3FA33B5E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8FC9-3670-44A0-BE5A-97925D592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65C1-2816-4B84-9A73-21BFB439B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7C34-516D-4FC5-A31B-5CA034E69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CA17-B657-48E3-B75B-214082952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EE69-42E9-4F90-9A70-1144804A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28D2-624B-40AD-B6E1-DAFD41B0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C2F8-73BE-4E1C-A63C-49A05F6A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7D9F0-6879-41EA-A8B0-43C79B37EE92}" type="slidenum">
              <a:rPr b="0" lang="pt-B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9504B-DAA3-4F11-AA24-A1F4C4CE40F5}" type="slidenum">
              <a:rPr b="0" lang="pt-B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99"/>
                </a:solidFill>
                <a:latin typeface="BankGothic Md BT"/>
              </a:rPr>
              <a:t>Redução de Risco </a:t>
            </a:r>
            <a:br>
              <a:rPr sz="4000"/>
            </a:br>
            <a:r>
              <a:rPr b="1" lang="pt-BR" sz="4000" spc="-1" strike="noStrike">
                <a:solidFill>
                  <a:srgbClr val="000099"/>
                </a:solidFill>
                <a:latin typeface="BankGothic Md BT"/>
              </a:rPr>
              <a:t>Ergonômico em Bicicleta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3200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 objetivo dest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trabalho é alertar 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usuário para os riscos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que uma bicicleta mal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scolhida pode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epresentar à coluna 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também dar alternativa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ara redução desses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isc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3" name="bycicle_1" descr=""/>
          <p:cNvPicPr/>
          <p:nvPr/>
        </p:nvPicPr>
        <p:blipFill>
          <a:blip r:embed="rId1"/>
          <a:stretch/>
        </p:blipFill>
        <p:spPr>
          <a:xfrm>
            <a:off x="3581280" y="2286000"/>
            <a:ext cx="48769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99"/>
                </a:solidFill>
                <a:latin typeface="Times New Roman"/>
              </a:rPr>
              <a:t>Interface Usuário - Seli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2" name="selim1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3980160" cy="4343400"/>
          </a:xfrm>
          <a:prstGeom prst="rect">
            <a:avLst/>
          </a:prstGeom>
          <a:ln w="0">
            <a:noFill/>
          </a:ln>
        </p:spPr>
      </p:pic>
      <p:pic>
        <p:nvPicPr>
          <p:cNvPr id="153" name="selim2" descr=""/>
          <p:cNvPicPr/>
          <p:nvPr/>
        </p:nvPicPr>
        <p:blipFill>
          <a:blip r:embed="rId2"/>
          <a:stretch/>
        </p:blipFill>
        <p:spPr>
          <a:xfrm>
            <a:off x="4800600" y="1523880"/>
            <a:ext cx="3929040" cy="43722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57200" y="603576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im Fino - Maior pressã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952880" y="601992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Selim largo – menor pressã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99"/>
                </a:solidFill>
                <a:latin typeface="Times New Roman"/>
              </a:rPr>
              <a:t>Adaptação do Seli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7" name="selim4" descr=""/>
          <p:cNvPicPr/>
          <p:nvPr/>
        </p:nvPicPr>
        <p:blipFill>
          <a:blip r:embed="rId1"/>
          <a:stretch/>
        </p:blipFill>
        <p:spPr>
          <a:xfrm>
            <a:off x="4876920" y="205740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158" name="selim3" descr=""/>
          <p:cNvPicPr/>
          <p:nvPr/>
        </p:nvPicPr>
        <p:blipFill>
          <a:blip r:embed="rId2"/>
          <a:stretch/>
        </p:blipFill>
        <p:spPr>
          <a:xfrm>
            <a:off x="304920" y="2057400"/>
            <a:ext cx="4064040" cy="30481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04920" y="518148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Selim fino usado anteriorment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00600" y="525780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Selim largo usado atualment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99"/>
                </a:solidFill>
                <a:latin typeface="Times New Roman"/>
              </a:rPr>
              <a:t>Visão Final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2" name="image013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2971800" cy="2801880"/>
          </a:xfrm>
          <a:prstGeom prst="rect">
            <a:avLst/>
          </a:prstGeom>
          <a:ln w="0">
            <a:noFill/>
          </a:ln>
        </p:spPr>
      </p:pic>
      <p:pic>
        <p:nvPicPr>
          <p:cNvPr id="163" name="image040" descr=""/>
          <p:cNvPicPr/>
          <p:nvPr/>
        </p:nvPicPr>
        <p:blipFill>
          <a:blip r:embed="rId2"/>
          <a:stretch/>
        </p:blipFill>
        <p:spPr>
          <a:xfrm>
            <a:off x="3871800" y="1752480"/>
            <a:ext cx="5272200" cy="51055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762120" y="3962520"/>
            <a:ext cx="266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Ciclista em bicicleta 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sem adaptaçã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4952880"/>
            <a:ext cx="4267080" cy="1524240"/>
          </a:xfrm>
          <a:custGeom>
            <a:avLst/>
            <a:gdLst>
              <a:gd name="textAreaLeft" fmla="*/ 666720 w 4267080"/>
              <a:gd name="textAreaRight" fmla="*/ 3733920 w 4267080"/>
              <a:gd name="textAreaTop" fmla="*/ 380880 h 1524240"/>
              <a:gd name="textAreaBottom" fmla="*/ 1143360 h 1524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Ciclista em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bicicleta adapt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1752480"/>
            <a:ext cx="9144000" cy="29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00099"/>
                </a:solidFill>
                <a:latin typeface="Times New Roman"/>
              </a:rPr>
              <a:t>http://www.areaseg.com/artigo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43200" y="4648320"/>
            <a:ext cx="4572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arlos Alberto Marangon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bril de 200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1066680"/>
            <a:ext cx="7696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Este arquivo na internet</a:t>
            </a:r>
            <a:r>
              <a:rPr b="0" lang="pt-BR" sz="40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99"/>
                </a:solidFill>
                <a:latin typeface="Times New Roman"/>
              </a:rPr>
              <a:t>Breve Visão das Bicicleta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5" name="j1" descr=""/>
          <p:cNvPicPr/>
          <p:nvPr/>
        </p:nvPicPr>
        <p:blipFill>
          <a:blip r:embed="rId1"/>
          <a:stretch/>
        </p:blipFill>
        <p:spPr>
          <a:xfrm>
            <a:off x="762120" y="4114800"/>
            <a:ext cx="3598920" cy="1800360"/>
          </a:xfrm>
          <a:prstGeom prst="rect">
            <a:avLst/>
          </a:prstGeom>
          <a:ln w="0">
            <a:noFill/>
          </a:ln>
        </p:spPr>
      </p:pic>
      <p:pic>
        <p:nvPicPr>
          <p:cNvPr id="96" name="j2" descr=""/>
          <p:cNvPicPr/>
          <p:nvPr/>
        </p:nvPicPr>
        <p:blipFill>
          <a:blip r:embed="rId2"/>
          <a:stretch/>
        </p:blipFill>
        <p:spPr>
          <a:xfrm>
            <a:off x="5105520" y="1447920"/>
            <a:ext cx="3598920" cy="1800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447920" y="32767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elerífero,169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562720" y="32767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rausiana,181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9" name="sp3" descr=""/>
          <p:cNvPicPr/>
          <p:nvPr/>
        </p:nvPicPr>
        <p:blipFill>
          <a:blip r:embed="rId3"/>
          <a:stretch/>
        </p:blipFill>
        <p:spPr>
          <a:xfrm>
            <a:off x="5181480" y="4114800"/>
            <a:ext cx="3598920" cy="1800360"/>
          </a:xfrm>
          <a:prstGeom prst="rect">
            <a:avLst/>
          </a:prstGeom>
          <a:ln w="0">
            <a:noFill/>
          </a:ln>
        </p:spPr>
      </p:pic>
      <p:pic>
        <p:nvPicPr>
          <p:cNvPr id="100" name="j3" descr=""/>
          <p:cNvPicPr/>
          <p:nvPr/>
        </p:nvPicPr>
        <p:blipFill>
          <a:blip r:embed="rId4"/>
          <a:stretch/>
        </p:blipFill>
        <p:spPr>
          <a:xfrm>
            <a:off x="838080" y="1447920"/>
            <a:ext cx="3598920" cy="18288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410080" y="59436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winn Phantom, 1958</a:t>
            </a: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94360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icicleta Autopropulsada,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700-1800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99"/>
                </a:solidFill>
                <a:latin typeface="Times New Roman"/>
              </a:rPr>
              <a:t>Modelos de Bicicletas Moderna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4" name="image001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3598920" cy="1800000"/>
          </a:xfrm>
          <a:prstGeom prst="rect">
            <a:avLst/>
          </a:prstGeom>
          <a:ln w="0">
            <a:noFill/>
          </a:ln>
        </p:spPr>
      </p:pic>
      <p:pic>
        <p:nvPicPr>
          <p:cNvPr id="105" name="image028" descr=""/>
          <p:cNvPicPr/>
          <p:nvPr/>
        </p:nvPicPr>
        <p:blipFill>
          <a:blip r:embed="rId2"/>
          <a:stretch/>
        </p:blipFill>
        <p:spPr>
          <a:xfrm>
            <a:off x="4800600" y="1219320"/>
            <a:ext cx="3598920" cy="1800000"/>
          </a:xfrm>
          <a:prstGeom prst="rect">
            <a:avLst/>
          </a:prstGeom>
          <a:ln w="0">
            <a:noFill/>
          </a:ln>
        </p:spPr>
      </p:pic>
      <p:pic>
        <p:nvPicPr>
          <p:cNvPr id="106" name="image026" descr=""/>
          <p:cNvPicPr/>
          <p:nvPr/>
        </p:nvPicPr>
        <p:blipFill>
          <a:blip r:embed="rId3"/>
          <a:stretch/>
        </p:blipFill>
        <p:spPr>
          <a:xfrm>
            <a:off x="533520" y="3962520"/>
            <a:ext cx="3598920" cy="1800000"/>
          </a:xfrm>
          <a:prstGeom prst="rect">
            <a:avLst/>
          </a:prstGeom>
          <a:ln w="0">
            <a:noFill/>
          </a:ln>
        </p:spPr>
      </p:pic>
      <p:pic>
        <p:nvPicPr>
          <p:cNvPr id="107" name="image023" descr=""/>
          <p:cNvPicPr/>
          <p:nvPr/>
        </p:nvPicPr>
        <p:blipFill>
          <a:blip r:embed="rId4"/>
          <a:stretch/>
        </p:blipFill>
        <p:spPr>
          <a:xfrm>
            <a:off x="4800600" y="3962520"/>
            <a:ext cx="3598920" cy="1800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33520" y="31240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icicleta Standard Atu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00600" y="31240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icicleta Para Transpor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7913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icicleta Para Competiçã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58672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ransporte/Passeio Feminin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99"/>
                </a:solidFill>
                <a:latin typeface="Times New Roman"/>
              </a:rPr>
              <a:t>Comparação Entre os</a:t>
            </a:r>
            <a:br>
              <a:rPr sz="4400"/>
            </a:br>
            <a:r>
              <a:rPr b="0" lang="pt-BR" sz="4400" spc="-1" strike="noStrike">
                <a:solidFill>
                  <a:srgbClr val="000099"/>
                </a:solidFill>
                <a:latin typeface="Times New Roman"/>
              </a:rPr>
              <a:t> Meios de Transport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3" name="image013" descr=""/>
          <p:cNvPicPr/>
          <p:nvPr/>
        </p:nvPicPr>
        <p:blipFill>
          <a:blip r:embed="rId1"/>
          <a:stretch/>
        </p:blipFill>
        <p:spPr>
          <a:xfrm>
            <a:off x="6477120" y="3124080"/>
            <a:ext cx="2666880" cy="2514600"/>
          </a:xfrm>
          <a:prstGeom prst="rect">
            <a:avLst/>
          </a:prstGeom>
          <a:ln w="0">
            <a:noFill/>
          </a:ln>
        </p:spPr>
      </p:pic>
      <p:pic>
        <p:nvPicPr>
          <p:cNvPr id="114" name="image009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971800" cy="2514600"/>
          </a:xfrm>
          <a:prstGeom prst="rect">
            <a:avLst/>
          </a:prstGeom>
          <a:ln w="0">
            <a:noFill/>
          </a:ln>
        </p:spPr>
      </p:pic>
      <p:pic>
        <p:nvPicPr>
          <p:cNvPr id="115" name="image011" descr=""/>
          <p:cNvPicPr/>
          <p:nvPr/>
        </p:nvPicPr>
        <p:blipFill>
          <a:blip r:embed="rId3"/>
          <a:stretch/>
        </p:blipFill>
        <p:spPr>
          <a:xfrm>
            <a:off x="0" y="3124080"/>
            <a:ext cx="3110040" cy="25146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352680" y="571500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ção confortável e coluna ereta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715000"/>
            <a:ext cx="281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ção confortável e coluna ereta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553080" y="5715000"/>
            <a:ext cx="25909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ção desconfortável e coluna inclinada</a:t>
            </a: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9080" y="2590920"/>
            <a:ext cx="233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avalo-Cavaleir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05320" y="25909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oto-Motoqueir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553080" y="2590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icicleta-Ciclis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8288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Posições usuais para baixas veloc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99"/>
                </a:solidFill>
                <a:latin typeface="Times New Roman"/>
              </a:rPr>
              <a:t>Comparação Entre os </a:t>
            </a:r>
            <a:br>
              <a:rPr sz="4400"/>
            </a:br>
            <a:r>
              <a:rPr b="0" lang="pt-BR" sz="4400" spc="-1" strike="noStrike">
                <a:solidFill>
                  <a:srgbClr val="000099"/>
                </a:solidFill>
                <a:latin typeface="Times New Roman"/>
              </a:rPr>
              <a:t>Meios de Transport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4" name="image017" descr=""/>
          <p:cNvPicPr/>
          <p:nvPr/>
        </p:nvPicPr>
        <p:blipFill>
          <a:blip r:embed="rId1"/>
          <a:stretch/>
        </p:blipFill>
        <p:spPr>
          <a:xfrm>
            <a:off x="3581280" y="3276720"/>
            <a:ext cx="2590920" cy="2230200"/>
          </a:xfrm>
          <a:prstGeom prst="rect">
            <a:avLst/>
          </a:prstGeom>
          <a:ln w="0">
            <a:noFill/>
          </a:ln>
        </p:spPr>
      </p:pic>
      <p:pic>
        <p:nvPicPr>
          <p:cNvPr id="125" name="image020" descr=""/>
          <p:cNvPicPr/>
          <p:nvPr/>
        </p:nvPicPr>
        <p:blipFill>
          <a:blip r:embed="rId2"/>
          <a:stretch/>
        </p:blipFill>
        <p:spPr>
          <a:xfrm>
            <a:off x="6400800" y="3276720"/>
            <a:ext cx="2438280" cy="2209680"/>
          </a:xfrm>
          <a:prstGeom prst="rect">
            <a:avLst/>
          </a:prstGeom>
          <a:ln w="0">
            <a:noFill/>
          </a:ln>
        </p:spPr>
      </p:pic>
      <p:pic>
        <p:nvPicPr>
          <p:cNvPr id="126" name="image015" descr=""/>
          <p:cNvPicPr/>
          <p:nvPr/>
        </p:nvPicPr>
        <p:blipFill>
          <a:blip r:embed="rId3"/>
          <a:stretch/>
        </p:blipFill>
        <p:spPr>
          <a:xfrm>
            <a:off x="533520" y="3276720"/>
            <a:ext cx="2692440" cy="22273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85800" y="23623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Posição usual para alta velocidad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55627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clinado à 45º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54864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clinado à 45º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76760" y="5486400"/>
            <a:ext cx="202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clinado à 90º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609588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ota: os valores dos ângulos são aproxim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99"/>
                </a:solidFill>
                <a:latin typeface="Times New Roman"/>
              </a:rPr>
              <a:t>Análise do Usuário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10666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Neste Estudo Foram Considerados os Seguintes Itens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1828800"/>
            <a:ext cx="87631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1. Condições de Saúde do Usuário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bicicletas são uma boa fonte de exercício, apesar de tudo, mas pessoas com problemas de coluna, LER/DORT e outras doenças pré-existentes devem tomar muito cuidado ao usar bicicletas. A elevada curvatura e o esforço feito ao andar e pedalar podem trazer problemas aos portadores de problemas na coluna. Os portadores de LER/DORT também podem ter problemas e sentir dores ao segurar o guidão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bicicleta e em particular sentir dores ao usar os freios-de-mão, pois estes exigem que as mãos fiquem tensionadas por algum tempo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3733920"/>
            <a:ext cx="86104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2. Altura e Peso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-se também levar em conta a altura e o peso do usuário. Na bicicleta, o  selim,deve ser regulado de acordo com a altura do usuário e o tamanho de suas pernas. O peso também é importante pois dele depende diretamente a força que deverá ser feita nos pedais para fazer a bicicleta andar. O selim é a parte da bicicleta que mais é influenciada pelo peso do ciclista. Este pode inclusive quebrar ou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 a sofrer avarias em poucas semanas se o peso for muito elevado.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5486400"/>
            <a:ext cx="8382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Destinação de Uso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mente, é imprescindível usar a bicicleta certa para o fim ao qual ela  se destina, quer seja trabalho, lazer ou esporte. Não é de bom senso usar uma bicicleta de competições esportivas para ir ao trabalho.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99"/>
                </a:solidFill>
                <a:latin typeface="Times New Roman"/>
              </a:rPr>
              <a:t>Ergonomi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2209680"/>
            <a:ext cx="87631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Ergonomia tem como objetivo adaptar o trabalho ao homem. Em um caso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 generi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o este da bicicleta a adaptação foi da máquina ao homem, para melhor servi-lo . Para diminuir os riscos ergonômicos da bicicleta, foi feito um trabalho de adaptação experimental de várias partes e peças de uma bicicleta. Foram mudados o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uidã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im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 os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nho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99"/>
                </a:solidFill>
                <a:latin typeface="Times New Roman"/>
              </a:rPr>
              <a:t>Guidão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0" name="image029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4191120" cy="2822760"/>
          </a:xfrm>
          <a:prstGeom prst="rect">
            <a:avLst/>
          </a:prstGeom>
          <a:ln w="0">
            <a:noFill/>
          </a:ln>
        </p:spPr>
      </p:pic>
      <p:pic>
        <p:nvPicPr>
          <p:cNvPr id="141" name="image031" descr=""/>
          <p:cNvPicPr/>
          <p:nvPr/>
        </p:nvPicPr>
        <p:blipFill>
          <a:blip r:embed="rId2"/>
          <a:stretch/>
        </p:blipFill>
        <p:spPr>
          <a:xfrm>
            <a:off x="4952880" y="1981080"/>
            <a:ext cx="3962520" cy="27972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33520" y="47242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odelo similar ao origi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47242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odelo adapt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556272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5715000"/>
            <a:ext cx="88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guidão adaptado ficou cerca de 30 cm mais alto que o guidão original.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99"/>
                </a:solidFill>
                <a:latin typeface="Times New Roman"/>
              </a:rPr>
              <a:t>Punhos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(Cabos do Guidão e Puxadores de Freio)</a:t>
            </a:r>
            <a:endParaRPr b="0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7" name="bike7" descr=""/>
          <p:cNvPicPr/>
          <p:nvPr/>
        </p:nvPicPr>
        <p:blipFill>
          <a:blip r:embed="rId1"/>
          <a:stretch/>
        </p:blipFill>
        <p:spPr>
          <a:xfrm>
            <a:off x="4952880" y="2133720"/>
            <a:ext cx="3962520" cy="2935080"/>
          </a:xfrm>
          <a:prstGeom prst="rect">
            <a:avLst/>
          </a:prstGeom>
          <a:ln w="0">
            <a:noFill/>
          </a:ln>
        </p:spPr>
      </p:pic>
      <p:pic>
        <p:nvPicPr>
          <p:cNvPr id="148" name="bike6" descr=""/>
          <p:cNvPicPr/>
          <p:nvPr/>
        </p:nvPicPr>
        <p:blipFill>
          <a:blip r:embed="rId2"/>
          <a:stretch/>
        </p:blipFill>
        <p:spPr>
          <a:xfrm>
            <a:off x="457200" y="2133720"/>
            <a:ext cx="3962520" cy="29541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57200" y="5105520"/>
            <a:ext cx="396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osição errada. Tendões e musculatura da mão tension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77160" y="5105520"/>
            <a:ext cx="2998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osição adotada. Tendões 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usculatura da rerlax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4T15:18:21Z</dcterms:created>
  <dc:creator>USUARIO</dc:creator>
  <dc:description/>
  <dc:language>en-US</dc:language>
  <cp:lastModifiedBy>USUARIO</cp:lastModifiedBy>
  <dcterms:modified xsi:type="dcterms:W3CDTF">2002-04-05T15:27:46Z</dcterms:modified>
  <cp:revision>65</cp:revision>
  <dc:subject/>
  <dc:title>Redução de Risco  Ergonômico em Bicicleta</dc:title>
</cp:coreProperties>
</file>